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wmf" ContentType="image/x-wmf"/>
  <Override PartName="/ppt/media/image13.wmf" ContentType="image/x-wmf"/>
  <Override PartName="/ppt/media/image5.png" ContentType="image/png"/>
  <Override PartName="/ppt/media/image28.png" ContentType="image/png"/>
  <Override PartName="/ppt/media/image8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0.wmf" ContentType="image/x-wmf"/>
  <Override PartName="/ppt/media/image25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2.jpeg" ContentType="image/jpeg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21.wmf" ContentType="image/x-wmf"/>
  <Override PartName="/ppt/media/image17.wmf" ContentType="image/x-wmf"/>
  <Override PartName="/ppt/media/image29.gif" ContentType="image/gif"/>
  <Override PartName="/ppt/media/image16.wmf" ContentType="image/x-wmf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8162-A563-41C1-B713-5D5BFD4D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334B-0A27-4929-8472-6ED18AD8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5A78-F45B-4FF0-81CD-D12989187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E4DF-8A3A-4556-8470-364ABE0AB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B6A6-FF36-41A5-B1E7-BDD94C0C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ACA2-549B-427B-A440-89720F7E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3C4A-E031-4E36-BE63-4A28594B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741D-7332-46CA-AB19-568E4333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F38F-9A85-4DEC-AF02-AE287ACE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6E28-8235-4FAA-8884-46C0329F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D154-74E4-402E-9775-325C9E26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6E95-F79B-42C4-8E37-20C310E2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347B-A16A-4601-8FB8-5204A7510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curricula/curriculumluis.htm" TargetMode="External"/><Relationship Id="rId2" Type="http://schemas.openxmlformats.org/officeDocument/2006/relationships/hyperlink" Target="file:///curricula/curriculumluis.htm" TargetMode="External"/><Relationship Id="rId3" Type="http://schemas.openxmlformats.org/officeDocument/2006/relationships/hyperlink" Target="file:///curricula/curriculumluis.htm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png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Curricula/curriculumluis.htm" TargetMode="External"/><Relationship Id="rId2" Type="http://schemas.openxmlformats.org/officeDocument/2006/relationships/hyperlink" Target="file:///Curricula/curriculumluis.htm" TargetMode="External"/><Relationship Id="rId3" Type="http://schemas.openxmlformats.org/officeDocument/2006/relationships/hyperlink" Target="file:///Curricula/curriculumluis.htm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CMS (Content Management Systems)</a:t>
            </a:r>
            <a:br>
              <a:rPr sz="4400"/>
            </a:b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Sistemas Gestores de Conte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87280" y="5300640"/>
            <a:ext cx="67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or: 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uis Enrique 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altazar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P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Administración del contenid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03640" y="4581360"/>
            <a:ext cx="1346040" cy="1825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55640" y="4365720"/>
            <a:ext cx="1538280" cy="2185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327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Utiliza un repositorio central (base de datos) de los documentos gener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ebe permitir la administración, mantenimiento y actualización de la estructura del sitio Web por medio de herramienta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651640" y="4869000"/>
            <a:ext cx="2195280" cy="12445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Publicac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vista final del sitio debe estar diseñado con hojas de estil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CMS debe soportar la presentación de los documentos en varios formatos como puede ser PDF, HT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63640" y="422100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4005360"/>
            <a:ext cx="2808360" cy="19429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sentac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ebe contar con soporte para ser visto desde cualquier navegador de Internet como pueden ser: Internet Explorer, Netscape, Opera, Mozilla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348000" y="3789360"/>
            <a:ext cx="2303640" cy="23036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sentac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835280" y="3141720"/>
            <a:ext cx="2493720" cy="3468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74872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l tamaño de la página debe ser limitado para garantizar que los tiempos de carga sean aceptables para los usuarios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364000" y="3716280"/>
            <a:ext cx="1783080" cy="1819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sentac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76360" y="3645000"/>
            <a:ext cx="1668600" cy="18190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Todas las páginas dentro de un CMS deben proporcionar los metadatos necesarios para su indexación, para mejorar las búsque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867280" y="3573360"/>
            <a:ext cx="1650960" cy="18766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1771920" cy="1933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56360" y="1557360"/>
            <a:ext cx="2449440" cy="1565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84360" y="4473720"/>
            <a:ext cx="2374920" cy="1981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580000" y="4292640"/>
            <a:ext cx="3303720" cy="2187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3276720" y="2781360"/>
            <a:ext cx="2303280" cy="22543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050920" y="2060640"/>
            <a:ext cx="4608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Gracia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2411280" y="5300640"/>
            <a:ext cx="549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or: 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uis Enrique 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altazar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Paz_x000b_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rreo: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luis@alethia.dgsca.unam.m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nteriormente para crear un sitio Web se utilizan herramientas como un bloc de notas o herramientas más completas como macromedia dreamwea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42960" y="4005360"/>
            <a:ext cx="1887480" cy="218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691240" y="4005360"/>
            <a:ext cx="1941480" cy="2187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ctualmente  se han desarrollado nuevas herramientas  que  permiten no solo crear un sitio Web sino administrarlo, actualizarlo y darle mantenimiento, a este nuevo tipo de herramientas  se les llama comúnm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CMS: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Content Management Systems (Sistemas Gestores de Contenido)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WCM: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Web Content Management (Gestor de Contenidos Web)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 un CM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s un conjunto de herramientas (programas), que se encuentran en un servidor Web y comúnmente incorporadas a esas herramientas una o varias bases de 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11640" y="1700280"/>
            <a:ext cx="4410000" cy="40194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pos de C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148360" y="1268280"/>
            <a:ext cx="1512720" cy="1160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3280" y="2565360"/>
            <a:ext cx="2543400" cy="714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3787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gs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os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tales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148360" y="4941720"/>
            <a:ext cx="1216080" cy="1297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572000" y="3860640"/>
            <a:ext cx="2664000" cy="5270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sificac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merciales: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nt Management Server 2002: de Microsoft.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web.</a:t>
            </a:r>
            <a:br>
              <a:rPr sz="2400"/>
            </a:b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Kentico: Un CMS hecho en C# y Visual Basic.NET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776920" y="1798560"/>
            <a:ext cx="1779480" cy="1787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765760" y="4141800"/>
            <a:ext cx="1803600" cy="17794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sificac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4895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os gratuitos con licencia de código abierto: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rupal (PH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Joomla  (PHP) Versión surgida de Mamb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ambo (PHP) C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NukeET (PHP) C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P-Nuke (PH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IP (PH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ikiWiki  (PH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900760" y="1697040"/>
            <a:ext cx="1533600" cy="1990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753160" y="411804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racterístic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92360" y="2276640"/>
            <a:ext cx="2244960" cy="3187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Creación de contenid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ditores del tipo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WYSIWYG </a:t>
            </a:r>
            <a:r>
              <a:rPr b="1" i="1" lang="es-MX" sz="2400" spc="-1" strike="noStrike">
                <a:solidFill>
                  <a:srgbClr val="ffffff"/>
                </a:solidFill>
                <a:latin typeface="Arial"/>
              </a:rPr>
              <a:t>What You See Is What You Get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(lo que ves es lo que obtienes)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eparación  del contenido y la presentación del sitio We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 manejo de múltiples usu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92360" y="4005360"/>
            <a:ext cx="1779480" cy="1811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00720" y="4076640"/>
            <a:ext cx="3052440" cy="18702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20:04:10Z</dcterms:created>
  <dc:creator>Luisito</dc:creator>
  <dc:description/>
  <dc:language>en-US</dc:language>
  <cp:lastModifiedBy>user</cp:lastModifiedBy>
  <dcterms:modified xsi:type="dcterms:W3CDTF">2006-05-17T16:03:01Z</dcterms:modified>
  <cp:revision>15</cp:revision>
  <dc:subject/>
  <dc:title>Diapositiva 1</dc:title>
</cp:coreProperties>
</file>