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wmf" ContentType="image/x-wmf"/>
  <Override PartName="/ppt/media/image29.gif" ContentType="image/gif"/>
  <Override PartName="/ppt/media/image16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1EA-27B4-40A8-BC33-67EDE5D0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F8F-250F-4542-92EB-4440CBE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278-5DDE-4CDF-A261-8393B600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685-E185-4247-81CA-B87951A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99D-4507-4DE8-AFEE-7B42361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C3E-CAB3-4866-9C6F-B387F5C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249-A535-41E6-9665-E247873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3BF-D767-49C6-89BE-E8ECF82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1DA-928E-4485-9A51-23A6123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B16-7193-412E-8C30-00B8137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E34-ED32-4F3F-B88E-1DC2175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48E-FC34-4AC0-86FA-9E0D91D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F09-DC95-4520-9F26-D92112C5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urricula/curriculumluis.htm" TargetMode="External"/><Relationship Id="rId2" Type="http://schemas.openxmlformats.org/officeDocument/2006/relationships/hyperlink" Target="file:///curricula/curriculumluis.htm" TargetMode="External"/><Relationship Id="rId3" Type="http://schemas.openxmlformats.org/officeDocument/2006/relationships/hyperlink" Target="file:///curricula/curriculumluis.htm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urricula/curriculumluis.htm" TargetMode="External"/><Relationship Id="rId2" Type="http://schemas.openxmlformats.org/officeDocument/2006/relationships/hyperlink" Target="file:///Curricula/curriculumluis.htm" TargetMode="External"/><Relationship Id="rId3" Type="http://schemas.openxmlformats.org/officeDocument/2006/relationships/hyperlink" Target="file:///Curricula/curriculumlui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MS (Content Management Systems)</a:t>
            </a:r>
            <a:br>
              <a:rPr sz="4400"/>
            </a:b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istemas Gestore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5300640"/>
            <a:ext cx="67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: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is Enriqu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ltazar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dministración del conteni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1346040" cy="18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153828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32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tiliza un repositorio central (base de datos) de los documentos gene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be permitir la administración, mantenimiento y actualización de la estructura del sitio Web por medio de herramient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2195280" cy="1244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Publ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vista final del sitio debe estar diseñado con hojas de esti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CMS debe soportar la presentación de los documentos en varios formatos como puede ser PDF, HT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2808360" cy="1942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be contar con soporte para ser visto desde cualquier navegador de Internet como pueden ser: Internet Explorer, Netscape, Opera, Mozill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3141720"/>
            <a:ext cx="2493720" cy="3468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487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tamaño de la página debe ser limitado para garantizar que los tiempos de carga sean aceptables para los usuario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1783080" cy="1819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3645000"/>
            <a:ext cx="1668600" cy="1819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s las páginas dentro de un CMS deben proporcionar los metadatos necesarios para su indexación, para mejorar las búsque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1650960" cy="187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1771920" cy="193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2449440" cy="156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84360" y="4473720"/>
            <a:ext cx="237492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80000" y="4292640"/>
            <a:ext cx="3303720" cy="218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76720" y="2781360"/>
            <a:ext cx="2303280" cy="225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50920" y="206064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raci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300640"/>
            <a:ext cx="54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is Enriqu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ltazar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az_x000b_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rreo: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luis@alethia.dgsca.unam.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para crear un sitio Web se utilizan herramientas como un bloc de notas o herramientas más completas como macromedia dreamwea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2960" y="4005360"/>
            <a:ext cx="188748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91240" y="4005360"/>
            <a:ext cx="1941480" cy="2187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ualmente  se han desarrollado nuevas herramientas  que  permiten no solo crear un sitio Web sino administrarlo, actualizarlo y darle mantenimiento, a este nuevo tipo de herramientas  se les llama común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M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Content Management Systems (Sistemas Gestores de Contenido)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WCM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Web Content Management (Gestor de Contenidos Web)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 un C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un conjunto de herramientas (programas), que se encuentran en un servidor Web y comúnmente incorporadas a esas herramientas una o varias base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410000" cy="4019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os de C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254340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78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o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ale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4941720"/>
            <a:ext cx="121608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2664000" cy="527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erciales: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nt Management Server 2002: de Microsoft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web.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Kentico: Un CMS hecho en C# y Visual Basic.NET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76920" y="1798560"/>
            <a:ext cx="1779480" cy="178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65760" y="4141800"/>
            <a:ext cx="1803600" cy="1779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89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gratuitos con licencia de código abiert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upal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Joomla  (PHP) Versión surgida de Mam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ambo (PHP) C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ukeET (PHP) C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P-Nuke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IP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kiWiki 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00760" y="1697040"/>
            <a:ext cx="153360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53160" y="4118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acteríst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44960" cy="318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reación de conteni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ditores del tipo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WYSIWYG 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What You See Is What You Get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(lo que ves es lo que obtienes)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paración  del contenido y la presentación del sitio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 manejo de múltiple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4005360"/>
            <a:ext cx="1779480" cy="181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3052440" cy="1870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0:04:10Z</dcterms:created>
  <dc:creator>Luisito</dc:creator>
  <dc:description/>
  <dc:language>en-US</dc:language>
  <cp:lastModifiedBy>user</cp:lastModifiedBy>
  <dcterms:modified xsi:type="dcterms:W3CDTF">2006-05-17T16:03:01Z</dcterms:modified>
  <cp:revision>15</cp:revision>
  <dc:subject/>
  <dc:title>Diapositiva 1</dc:title>
</cp:coreProperties>
</file>