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C4A-53AD-41B2-843A-789BBF50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79D-E276-48B0-A7DA-76E9F997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41C-C006-491C-8B38-0105DB5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A2A-C9A7-4992-BFBD-3EF944CF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1A8-1FD9-44D8-AA5E-5505F31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6E5-3915-4F34-8B26-CE769B0D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7E2-0689-4FE9-B5CF-78AB972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726-5F75-4C99-893F-92812DBA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D2E-C871-4633-8E0A-1841BD92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591-97EB-42D2-BCDF-5B3F5DD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335-26BE-403E-9D48-1D0B997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526-439B-4D61-A197-B3C9685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3E68-771A-4569-AE66-C366176BFF72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upofuturo.blogspot.com/" TargetMode="External"/><Relationship Id="rId2" Type="http://schemas.openxmlformats.org/officeDocument/2006/relationships/hyperlink" Target="http://grupofuturo.wikispace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15600"/>
            <a:ext cx="91440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c49500"/>
                </a:solidFill>
                <a:latin typeface="Broadway"/>
                <a:ea typeface="Arial"/>
              </a:rPr>
              <a:t>FATLA</a:t>
            </a:r>
            <a:br>
              <a:rPr sz="1200"/>
            </a:br>
            <a:r>
              <a:rPr b="0" i="1" lang="es-VE" sz="1200" spc="-1" strike="noStrike">
                <a:solidFill>
                  <a:srgbClr val="c49500"/>
                </a:solidFill>
                <a:latin typeface="Broadway"/>
                <a:ea typeface="Arial"/>
              </a:rPr>
              <a:t>Fundación para la Actualización Tecnológica de Latinoamérica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Programa de Experto en Procesos Elearning</a:t>
            </a:r>
            <a:br>
              <a:rPr sz="1200"/>
            </a:br>
            <a:r>
              <a:rPr b="0" lang="es-VE" sz="1200" spc="-1" strike="noStrike">
                <a:solidFill>
                  <a:srgbClr val="006600"/>
                </a:solidFill>
                <a:latin typeface="Broadway"/>
                <a:ea typeface="Arial"/>
              </a:rPr>
              <a:t>Módulo 5 - Metodología PACIE - Capacit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Uso del CMS (Sistema Gestión de Contenidos) como Herramienta Educativa para la Actualización Tecnológic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1f497d"/>
                </a:solidFill>
                <a:latin typeface="Arial Narrow"/>
              </a:rPr>
              <a:t>de los Docentes en la UNIPAP (Universidad Panamericana del Puerto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000" spc="-1" strike="noStrike">
                <a:solidFill>
                  <a:srgbClr val="1f497d"/>
                </a:solidFill>
                <a:latin typeface="Broadway"/>
                <a:ea typeface="Arial"/>
              </a:rPr>
              <a:t>GRUPOFUTURO</a:t>
            </a:r>
            <a:br>
              <a:rPr sz="1000"/>
            </a:br>
            <a:r>
              <a:rPr b="0" lang="es-VE" sz="1000" spc="-1" strike="noStrike">
                <a:solidFill>
                  <a:srgbClr val="006600"/>
                </a:solidFill>
                <a:latin typeface="Broadway"/>
                <a:ea typeface="Arial"/>
              </a:rPr>
              <a:t>Las TIC´s y la Educación un futuro prometedor</a:t>
            </a:r>
            <a:br>
              <a:rPr sz="1000"/>
            </a:br>
            <a:r>
              <a:rPr b="1" i="1" lang="es-VE" sz="1000" spc="-1" strike="noStrike">
                <a:solidFill>
                  <a:srgbClr val="632523"/>
                </a:solidFill>
                <a:latin typeface="Arial"/>
                <a:ea typeface="Arial"/>
              </a:rPr>
              <a:t>Dennys Elieser López Castillo – Coordina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0" y="2631960"/>
          <a:ext cx="4357800" cy="2151000"/>
        </p:xfrm>
        <a:graphic>
          <a:graphicData uri="http://schemas.openxmlformats.org/drawingml/2006/table">
            <a:tbl>
              <a:tblPr/>
              <a:tblGrid>
                <a:gridCol w="593640"/>
                <a:gridCol w="1584360"/>
                <a:gridCol w="352440"/>
                <a:gridCol w="182736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Í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Nombre y Apell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31859c"/>
                          </a:solidFill>
                          <a:latin typeface="Arial Narrow"/>
                        </a:rPr>
                        <a:t>FASE del Proye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Maria B. Esco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Autonom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ecilia E. Cube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Plan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ack Ivan Vid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Cre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Jorge Ovie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Evalu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c49500"/>
                          </a:solidFill>
                          <a:latin typeface="Wingdings"/>
                          <a:ea typeface="Wingdings"/>
                        </a:rPr>
                        <a:t>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Dennys López 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100" spc="-1" strike="noStrike">
                          <a:solidFill>
                            <a:srgbClr val="31859c"/>
                          </a:solidFill>
                          <a:latin typeface="Wingdings"/>
                          <a:ea typeface="Wingdings"/>
                        </a:rPr>
                        <a:t>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100" spc="-1" strike="noStrike">
                          <a:solidFill>
                            <a:srgbClr val="632523"/>
                          </a:solidFill>
                          <a:latin typeface="Arial Narrow"/>
                        </a:rPr>
                        <a:t>Investig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43" name="5 CuadroTexto">
            <a:hlinkClick r:id="rId1"/>
          </p:cNvPr>
          <p:cNvSpPr/>
          <p:nvPr/>
        </p:nvSpPr>
        <p:spPr>
          <a:xfrm>
            <a:off x="142920" y="392904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grupofuturo.blogspot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6715080" y="39387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http://</a:t>
            </a:r>
            <a:r>
              <a:rPr b="0" lang="es-VE" sz="1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grupofuturo.wikispaces.com</a:t>
            </a:r>
            <a:r>
              <a:rPr b="0" lang="es-VE" sz="1200" spc="-1" strike="noStrike">
                <a:solidFill>
                  <a:srgbClr val="1f497d"/>
                </a:solidFill>
                <a:latin typeface="Arial Narro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12 Grupo"/>
          <p:cNvGrpSpPr/>
          <p:nvPr/>
        </p:nvGrpSpPr>
        <p:grpSpPr>
          <a:xfrm>
            <a:off x="2214720" y="5024520"/>
            <a:ext cx="4714560" cy="833400"/>
            <a:chOff x="2214720" y="5024520"/>
            <a:chExt cx="4714560" cy="833400"/>
          </a:xfrm>
        </p:grpSpPr>
        <p:pic>
          <p:nvPicPr>
            <p:cNvPr id="46" name="Picture 14" descr="Nueva foto "/>
            <p:cNvPicPr/>
            <p:nvPr/>
          </p:nvPicPr>
          <p:blipFill>
            <a:blip r:embed="rId3"/>
            <a:stretch/>
          </p:blipFill>
          <p:spPr>
            <a:xfrm>
              <a:off x="3152880" y="5044320"/>
              <a:ext cx="106128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Foto Dennys Lopez"/>
            <p:cNvPicPr/>
            <p:nvPr/>
          </p:nvPicPr>
          <p:blipFill>
            <a:blip r:embed="rId4"/>
            <a:stretch/>
          </p:blipFill>
          <p:spPr>
            <a:xfrm>
              <a:off x="5862240" y="5024520"/>
              <a:ext cx="106704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Imagen de Jorge Luis Oviedo Rivero"/>
            <p:cNvPicPr/>
            <p:nvPr/>
          </p:nvPicPr>
          <p:blipFill>
            <a:blip r:embed="rId5"/>
            <a:stretch/>
          </p:blipFill>
          <p:spPr>
            <a:xfrm>
              <a:off x="4882680" y="5024520"/>
              <a:ext cx="124308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0" descr="Imagen de María Belén Escobar Badillo "/>
            <p:cNvPicPr/>
            <p:nvPr/>
          </p:nvPicPr>
          <p:blipFill>
            <a:blip r:embed="rId6"/>
            <a:stretch/>
          </p:blipFill>
          <p:spPr>
            <a:xfrm>
              <a:off x="2214720" y="5044320"/>
              <a:ext cx="10670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2" descr="Imagen de Jack Iván Vidal Chica"/>
            <p:cNvPicPr/>
            <p:nvPr/>
          </p:nvPicPr>
          <p:blipFill>
            <a:blip r:embed="rId7"/>
            <a:stretch/>
          </p:blipFill>
          <p:spPr>
            <a:xfrm>
              <a:off x="4085280" y="5044320"/>
              <a:ext cx="1043640" cy="81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" descr="Blogger"/>
          <p:cNvPicPr/>
          <p:nvPr/>
        </p:nvPicPr>
        <p:blipFill>
          <a:blip r:embed="rId8"/>
          <a:stretch/>
        </p:blipFill>
        <p:spPr>
          <a:xfrm>
            <a:off x="500040" y="3548160"/>
            <a:ext cx="121464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c1.wikicdn.com/i/plant.png"/>
          <p:cNvPicPr/>
          <p:nvPr/>
        </p:nvPicPr>
        <p:blipFill>
          <a:blip r:embed="rId9"/>
          <a:stretch/>
        </p:blipFill>
        <p:spPr>
          <a:xfrm>
            <a:off x="7472520" y="3471840"/>
            <a:ext cx="6714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15 Rectángulo"/>
          <p:cNvSpPr/>
          <p:nvPr/>
        </p:nvSpPr>
        <p:spPr>
          <a:xfrm>
            <a:off x="2468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3468960" y="59292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7 Rectángulo"/>
          <p:cNvSpPr/>
          <p:nvPr/>
        </p:nvSpPr>
        <p:spPr>
          <a:xfrm>
            <a:off x="4430160" y="5929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8 Rectángulo"/>
          <p:cNvSpPr/>
          <p:nvPr/>
        </p:nvSpPr>
        <p:spPr>
          <a:xfrm>
            <a:off x="532728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9 Rectángulo"/>
          <p:cNvSpPr/>
          <p:nvPr/>
        </p:nvSpPr>
        <p:spPr>
          <a:xfrm>
            <a:off x="6327360" y="59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c49500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11 Grupo"/>
          <p:cNvGrpSpPr/>
          <p:nvPr/>
        </p:nvGrpSpPr>
        <p:grpSpPr>
          <a:xfrm>
            <a:off x="0" y="714240"/>
            <a:ext cx="9072720" cy="642960"/>
            <a:chOff x="0" y="714240"/>
            <a:chExt cx="9072720" cy="642960"/>
          </a:xfrm>
        </p:grpSpPr>
        <p:sp>
          <p:nvSpPr>
            <p:cNvPr id="59" name="22 CuadroTexto"/>
            <p:cNvSpPr/>
            <p:nvPr/>
          </p:nvSpPr>
          <p:spPr>
            <a:xfrm>
              <a:off x="7644240" y="714240"/>
              <a:ext cx="142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Equipo 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grupofutur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16 Imagen" descr="nuevo logo unipap.jpg"/>
            <p:cNvPicPr/>
            <p:nvPr/>
          </p:nvPicPr>
          <p:blipFill>
            <a:blip r:embed="rId10"/>
            <a:stretch/>
          </p:blipFill>
          <p:spPr>
            <a:xfrm>
              <a:off x="0" y="714240"/>
              <a:ext cx="78552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9:37:18Z</dcterms:created>
  <dc:creator>Dennys</dc:creator>
  <dc:description/>
  <dc:language>en-US</dc:language>
  <cp:lastModifiedBy>MA. BELEN E.</cp:lastModifiedBy>
  <dcterms:modified xsi:type="dcterms:W3CDTF">2009-07-21T03:39:04Z</dcterms:modified>
  <cp:revision>10</cp:revision>
  <dc:subject/>
  <dc:title>Diapositiva 1</dc:title>
</cp:coreProperties>
</file>