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3CF-2CD4-4A8B-82CB-27727BFB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F27-72DA-4511-AAD4-2D80C3D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608-4037-4A76-BD31-A32521DD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59A-17E6-43C7-BB8F-777FD283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85B-5B56-4EBA-82F3-8638DAA6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21B-BE6C-44CC-A3C5-6C44D5EF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034-DE95-4F44-9314-8967492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423-DC29-4EF3-8BF6-DC580011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7CF-A1A4-446D-A8B7-1734545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FF3-A3E7-498E-915F-1D411FD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AA1-CEC8-4D62-A0FE-A7E9107A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193-F066-4189-A4CC-DDD02E9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084-25C2-4758-A5B8-DDCC04A70B3D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upofuturo.blogspot.com/" TargetMode="External"/><Relationship Id="rId2" Type="http://schemas.openxmlformats.org/officeDocument/2006/relationships/hyperlink" Target="http://grupofuturo.wikispaces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15600"/>
            <a:ext cx="91440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c49500"/>
                </a:solidFill>
                <a:latin typeface="Broadway"/>
                <a:ea typeface="Arial"/>
              </a:rPr>
              <a:t>FATLA</a:t>
            </a:r>
            <a:br>
              <a:rPr sz="1200"/>
            </a:br>
            <a:r>
              <a:rPr b="0" i="1" lang="es-VE" sz="1200" spc="-1" strike="noStrike">
                <a:solidFill>
                  <a:srgbClr val="c49500"/>
                </a:solidFill>
                <a:latin typeface="Broadway"/>
                <a:ea typeface="Arial"/>
              </a:rPr>
              <a:t>Fundación para la Actualización Tecnológica de Latinoamérica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Programa de Experto en Procesos Elearning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Módulo 5 - Metodología PACIE - Capacit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Uso del CMS (Sistema Gestión de Contenidos) como Herramienta Educativa para la Actualización Tecnológic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de los Docentes en la UNIPAP (Universidad Panamericana del Puerto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000" spc="-1" strike="noStrike">
                <a:solidFill>
                  <a:srgbClr val="1f497d"/>
                </a:solidFill>
                <a:latin typeface="Broadway"/>
                <a:ea typeface="Arial"/>
              </a:rPr>
              <a:t>GRUPOFUTURO</a:t>
            </a:r>
            <a:br>
              <a:rPr sz="1000"/>
            </a:br>
            <a:r>
              <a:rPr b="0" lang="es-VE" sz="1000" spc="-1" strike="noStrike">
                <a:solidFill>
                  <a:srgbClr val="006600"/>
                </a:solidFill>
                <a:latin typeface="Broadway"/>
                <a:ea typeface="Arial"/>
              </a:rPr>
              <a:t>Las TIC´s y la Educación un futuro prometedor</a:t>
            </a:r>
            <a:br>
              <a:rPr sz="1000"/>
            </a:br>
            <a:r>
              <a:rPr b="1" i="1" lang="es-VE" sz="1000" spc="-1" strike="noStrike">
                <a:solidFill>
                  <a:srgbClr val="632523"/>
                </a:solidFill>
                <a:latin typeface="Arial"/>
                <a:ea typeface="Arial"/>
              </a:rPr>
              <a:t>Dennys Elieser López Castillo – Coordinad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0" y="2631960"/>
          <a:ext cx="4357800" cy="2151000"/>
        </p:xfrm>
        <a:graphic>
          <a:graphicData uri="http://schemas.openxmlformats.org/drawingml/2006/table">
            <a:tbl>
              <a:tblPr/>
              <a:tblGrid>
                <a:gridCol w="593640"/>
                <a:gridCol w="1584360"/>
                <a:gridCol w="352440"/>
                <a:gridCol w="182736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Í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Nombre y Apell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FASE del Proye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Maria B. Esco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Autonom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ecilia E. Cube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Plan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ack Ivan Vid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re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orge Ovied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Evalu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Dennys López 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Investig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43" name="5 CuadroTexto">
            <a:hlinkClick r:id="rId1"/>
          </p:cNvPr>
          <p:cNvSpPr/>
          <p:nvPr/>
        </p:nvSpPr>
        <p:spPr>
          <a:xfrm>
            <a:off x="142920" y="392904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grupofuturo.blogspot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6715080" y="39387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</a:t>
            </a:r>
            <a:r>
              <a:rPr b="0" lang="es-VE" sz="1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grupofuturo.wikispaces.com</a:t>
            </a: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12 Grupo"/>
          <p:cNvGrpSpPr/>
          <p:nvPr/>
        </p:nvGrpSpPr>
        <p:grpSpPr>
          <a:xfrm>
            <a:off x="2214720" y="5024520"/>
            <a:ext cx="4714560" cy="833400"/>
            <a:chOff x="2214720" y="5024520"/>
            <a:chExt cx="4714560" cy="833400"/>
          </a:xfrm>
        </p:grpSpPr>
        <p:pic>
          <p:nvPicPr>
            <p:cNvPr id="46" name="Picture 14" descr="Nueva foto "/>
            <p:cNvPicPr/>
            <p:nvPr/>
          </p:nvPicPr>
          <p:blipFill>
            <a:blip r:embed="rId3"/>
            <a:stretch/>
          </p:blipFill>
          <p:spPr>
            <a:xfrm>
              <a:off x="3152880" y="5044320"/>
              <a:ext cx="106128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Foto Dennys Lopez"/>
            <p:cNvPicPr/>
            <p:nvPr/>
          </p:nvPicPr>
          <p:blipFill>
            <a:blip r:embed="rId4"/>
            <a:stretch/>
          </p:blipFill>
          <p:spPr>
            <a:xfrm>
              <a:off x="5862240" y="5024520"/>
              <a:ext cx="106704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Imagen de Jorge Luis Oviedo Rivero"/>
            <p:cNvPicPr/>
            <p:nvPr/>
          </p:nvPicPr>
          <p:blipFill>
            <a:blip r:embed="rId5"/>
            <a:stretch/>
          </p:blipFill>
          <p:spPr>
            <a:xfrm>
              <a:off x="4882680" y="5024520"/>
              <a:ext cx="124308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0" descr="Imagen de María Belén Escobar Badillo "/>
            <p:cNvPicPr/>
            <p:nvPr/>
          </p:nvPicPr>
          <p:blipFill>
            <a:blip r:embed="rId6"/>
            <a:stretch/>
          </p:blipFill>
          <p:spPr>
            <a:xfrm>
              <a:off x="2214720" y="5044320"/>
              <a:ext cx="10670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2" descr="Imagen de Jack Iván Vidal Chica"/>
            <p:cNvPicPr/>
            <p:nvPr/>
          </p:nvPicPr>
          <p:blipFill>
            <a:blip r:embed="rId7"/>
            <a:stretch/>
          </p:blipFill>
          <p:spPr>
            <a:xfrm>
              <a:off x="4085280" y="5044320"/>
              <a:ext cx="1043640" cy="81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" descr="Blogger"/>
          <p:cNvPicPr/>
          <p:nvPr/>
        </p:nvPicPr>
        <p:blipFill>
          <a:blip r:embed="rId8"/>
          <a:stretch/>
        </p:blipFill>
        <p:spPr>
          <a:xfrm>
            <a:off x="500040" y="3548160"/>
            <a:ext cx="1214640" cy="3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c1.wikicdn.com/i/plant.png"/>
          <p:cNvPicPr/>
          <p:nvPr/>
        </p:nvPicPr>
        <p:blipFill>
          <a:blip r:embed="rId9"/>
          <a:stretch/>
        </p:blipFill>
        <p:spPr>
          <a:xfrm>
            <a:off x="7472520" y="3471840"/>
            <a:ext cx="6714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15 Rectángulo"/>
          <p:cNvSpPr/>
          <p:nvPr/>
        </p:nvSpPr>
        <p:spPr>
          <a:xfrm>
            <a:off x="2468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3468960" y="59292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7 Rectángulo"/>
          <p:cNvSpPr/>
          <p:nvPr/>
        </p:nvSpPr>
        <p:spPr>
          <a:xfrm>
            <a:off x="4430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8 Rectángulo"/>
          <p:cNvSpPr/>
          <p:nvPr/>
        </p:nvSpPr>
        <p:spPr>
          <a:xfrm>
            <a:off x="532728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9 Rectángulo"/>
          <p:cNvSpPr/>
          <p:nvPr/>
        </p:nvSpPr>
        <p:spPr>
          <a:xfrm>
            <a:off x="632736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11 Grupo"/>
          <p:cNvGrpSpPr/>
          <p:nvPr/>
        </p:nvGrpSpPr>
        <p:grpSpPr>
          <a:xfrm>
            <a:off x="0" y="714240"/>
            <a:ext cx="9072720" cy="642960"/>
            <a:chOff x="0" y="714240"/>
            <a:chExt cx="9072720" cy="642960"/>
          </a:xfrm>
        </p:grpSpPr>
        <p:sp>
          <p:nvSpPr>
            <p:cNvPr id="59" name="22 CuadroTexto"/>
            <p:cNvSpPr/>
            <p:nvPr/>
          </p:nvSpPr>
          <p:spPr>
            <a:xfrm>
              <a:off x="7644240" y="714240"/>
              <a:ext cx="142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Equipo 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grupofutur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16 Imagen" descr="nuevo logo unipap.jpg"/>
            <p:cNvPicPr/>
            <p:nvPr/>
          </p:nvPicPr>
          <p:blipFill>
            <a:blip r:embed="rId10"/>
            <a:stretch/>
          </p:blipFill>
          <p:spPr>
            <a:xfrm>
              <a:off x="0" y="714240"/>
              <a:ext cx="78552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9:37:18Z</dcterms:created>
  <dc:creator>Dennys</dc:creator>
  <dc:description/>
  <dc:language>en-US</dc:language>
  <cp:lastModifiedBy>MA. BELEN E.</cp:lastModifiedBy>
  <dcterms:modified xsi:type="dcterms:W3CDTF">2009-07-21T03:39:04Z</dcterms:modified>
  <cp:revision>10</cp:revision>
  <dc:subject/>
  <dc:title>Diapositiva 1</dc:title>
</cp:coreProperties>
</file>